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BDF-7CF5-4744-80D1-6B3B1258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176-98BC-4087-BA29-7B7ACF30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3E9-8716-47A3-9DF0-E1263EDC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F35-BD40-4D25-9194-CC1619F8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CDF-8D80-4BFA-8622-EF4D4B75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7A9-4BCD-4A62-8160-FF215B1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E8D-70CF-459D-B999-E42E443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146-6AA9-420A-B65E-37D8C712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DB5-131F-4B91-BBA8-98DF44E2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655-AD44-4B9A-93DE-6DD1944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878-2922-4752-B480-87E2C25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EB8-1857-4F76-9DA7-1874D4D2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180-B178-4CC7-8412-1B0BCAE81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-prazdniki.ru/novyj-god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938240" y="92160"/>
            <a:ext cx="7632720" cy="2554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932360" y="5229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ихидина Инна Ю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од Владивос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«СОШ № 6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1920" cy="6969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547640" y="46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езиденция Деда Мо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95280" y="47628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ень  рождения поздравить сказочного именинника приезжают его многочисленные родственники и коллеги — Санта-Клаус из Финляндии, Чисхан — якутский Дед Мороз, карельский Паккайне, зимний сказочник Микулаш из Чехии, Снегурочка из Костромы, а также официальные делегации из Вологды, Москвы, Нижнего Новгорода и многих других городов. А на центральной площади Великого Устюга в этот день проходят всевозможные праздничные мероприятия и, по традиции, зажигаются огни на первой новогодней ёлке. Ведь после этого праздника Дед Мороз поедет по российским городам и в каждом будет вместе с детьми зажигать огни на новогодних елках, ведь скоро Новый Год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3"/>
          <a:stretch/>
        </p:blipFill>
        <p:spPr>
          <a:xfrm>
            <a:off x="-6480" y="0"/>
            <a:ext cx="9155160" cy="6907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4"/>
          <a:stretch/>
        </p:blipFill>
        <p:spPr>
          <a:xfrm>
            <a:off x="0" y="0"/>
            <a:ext cx="9210600" cy="6907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"/>
          <p:cNvPicPr/>
          <p:nvPr/>
        </p:nvPicPr>
        <p:blipFill>
          <a:blip r:embed="rId5"/>
          <a:stretch/>
        </p:blipFill>
        <p:spPr>
          <a:xfrm>
            <a:off x="-30240" y="-23760"/>
            <a:ext cx="9240840" cy="6905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6"/>
          <a:stretch/>
        </p:blipFill>
        <p:spPr>
          <a:xfrm>
            <a:off x="-30240" y="-23760"/>
            <a:ext cx="92394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0" y="12600"/>
            <a:ext cx="9117000" cy="6845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539640" y="2781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Да»,  – скажете вы . «Дед Мороз – мифический и сказочный персонаж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ждый может увидеть десятки Дедов Морозов на улице или на праздничном представлении, и все они ненастоящие, с бородой из ва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 не менее, есть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тоящий Дед Моро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в которого верят дети и взрос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-468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85680" y="1420920"/>
            <a:ext cx="916164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5054760" y="479736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ихидина Инна Ю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од Владивос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 «СОШ № 63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alibri"/>
              </a:rPr>
              <a:t>Школа «АБ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ww.shkola-abv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660240" y="26028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ольшая седая борода, шуба, посох и много подарков в мешке за спиной. Кто эт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2"/>
          <a:stretch/>
        </p:blipFill>
        <p:spPr>
          <a:xfrm>
            <a:off x="1709640" y="20462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24000" y="141300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а, это он, добрый сказочный дедушка, дарящий на Новый год подар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8 ноябр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у него свой праздник, в этот день у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еда Мороза день рожде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и он сам ждёт поздравлений и подар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-108000" y="0"/>
            <a:ext cx="926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62480" y="260280"/>
            <a:ext cx="3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24000" y="404640"/>
            <a:ext cx="8351640" cy="69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м занимается Дед Мороз в свой день рождения? Конечно же – отмечает, день рождения всё-таки. Но праздник проходит, снова наступают трудовые будни. В календаре Деда Мороза только один выходной – 18 ноября. Впереди 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Новый го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нужно прочитать все письма от детей, приготовить подарки тем, кто хорошо себя вёл в этом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ранее напишите письмо Деду Морозу, чтобы он успел его прочитать до новогоднего праздника – писем то очень много. Пишут Деду Морозу и взрослые – те, кто ещё не перестал верить в новогодние чудеса. Они тоже ждут подарочка от деду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3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68360" y="47628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как найти Деда Мороза? Куда отправлять письмо? А туда, где он живёт. Нет, не на северный полюс. Не путайте нашего Мороза с Санта-Клаусом. В декабре 1998 года резиденцией российского Деда Мороза был объявлен город Великий Устюг, расположенный на севере Вологодской об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чтовый адрес Деда Мороза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2390 Россия, Вологодская область, город Великий Устюг, Деду Моро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17360" y="1193760"/>
            <a:ext cx="8864640" cy="447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4738680" y="30384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ду Мор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576680" y="3619440"/>
            <a:ext cx="28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ссия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логодская  облас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ород Великий Устю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 Деда Мороз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356000" y="47498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23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826920" y="170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ород Владивосто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лица Бородинская, дом 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340000" y="22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901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971640" y="1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имся писать пис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319640" cy="6105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4784760" y="396720"/>
            <a:ext cx="42289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192240" y="258840"/>
            <a:ext cx="4451040" cy="6105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4643280" y="396720"/>
            <a:ext cx="4370400" cy="5977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39640" y="836640"/>
            <a:ext cx="352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дравству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едушка Мороз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здравляю тебя с днём рождения и с наступающим Новым годом! Хочу пожелать тебе здоровья и долгих лет жизни.  Пусть каждый Новый год  происходят  чудеса  и все мальчишки и девчон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лучат  твои подар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 сви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22:48:55Z</dcterms:created>
  <dc:creator>InnaPC</dc:creator>
  <dc:description/>
  <dc:language>en-US</dc:language>
  <cp:lastModifiedBy>Борис</cp:lastModifiedBy>
  <dcterms:modified xsi:type="dcterms:W3CDTF">2014-11-15T08:02:55Z</dcterms:modified>
  <cp:revision>18</cp:revision>
  <dc:subject/>
  <dc:title>Презентация PowerPoint</dc:title>
</cp:coreProperties>
</file>